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image2.jpeg" ContentType="image/jpeg"/>
  <Override PartName="/ppt/media/image3.png" ContentType="image/png"/>
  <Override PartName="/ppt/media/breez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5F3-FB9C-4C7F-8AFA-AB2E3F90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33A-F900-40FC-AD03-BB51D297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E70-E103-4464-8F7A-093FD024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65B-7BB5-4C78-9F9D-7C0EA666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22E-6F19-4CFF-A7C0-79850FB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B63-D3A4-4D97-95DD-9F9BE11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098-B66C-4BE4-AA73-2AE1C9B4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AE5-41CD-49EC-89CC-F5E31DC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43A-070C-4E7C-99A9-5BAE5FF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1B0-5045-4EA2-B0A1-87B51FA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F1D-E5FC-4753-816A-ACC3C81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F7D-958F-4D74-8AB6-7DFC07C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66C-2F04-404A-9734-0E584F0C0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ttle-fort-donelson"/>
          <p:cNvPicPr/>
          <p:nvPr/>
        </p:nvPicPr>
        <p:blipFill>
          <a:blip r:embed="rId1"/>
          <a:stretch/>
        </p:blipFill>
        <p:spPr>
          <a:xfrm>
            <a:off x="533520" y="457200"/>
            <a:ext cx="818172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876920" y="533520"/>
            <a:ext cx="361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t Donelso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izabeth Patterso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9760" y="5328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appeal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Stewart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: Feb. 11-16, 18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ualties: US 2,331; CS 15,067. Total: 17,3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on won the b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fort_donelson_print"/>
          <p:cNvPicPr/>
          <p:nvPr/>
        </p:nvPicPr>
        <p:blipFill>
          <a:blip r:embed="rId1"/>
          <a:stretch/>
        </p:blipFill>
        <p:spPr>
          <a:xfrm>
            <a:off x="4419720" y="1600200"/>
            <a:ext cx="4286160" cy="453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breez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: General 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: General John B. Floyd, General Gideon Pillow, &amp; General Simon B. Buck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wpgrant2"/>
          <p:cNvPicPr/>
          <p:nvPr/>
        </p:nvPicPr>
        <p:blipFill>
          <a:blip r:embed="rId1"/>
          <a:stretch/>
        </p:blipFill>
        <p:spPr>
          <a:xfrm>
            <a:off x="5257800" y="1523880"/>
            <a:ext cx="3051000" cy="4724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3276720" y="3049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eral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1676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.loc.g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breez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apturing Fort Henry, Grant advance cross-country to invest Fort Donel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s 12,000-man garrison surrendered unconditio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ucky remained in the un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breez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nps.gov/hps/abpp/battles/tn00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23:42:02Z</dcterms:created>
  <dc:creator>Kim</dc:creator>
  <dc:description/>
  <dc:language>en-US</dc:language>
  <cp:lastModifiedBy>Kim</cp:lastModifiedBy>
  <dcterms:modified xsi:type="dcterms:W3CDTF">2011-09-14T00:50:48Z</dcterms:modified>
  <cp:revision>5</cp:revision>
  <dc:subject/>
  <dc:title>Fort Donelson </dc:title>
</cp:coreProperties>
</file>